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DAEAC-3980-4B0E-8A81-0BC0D7288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8D908-CF5C-41C1-92B7-FD6F15451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B7ECA-1236-4455-A282-F08BD4707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F002D-2178-4173-BB96-EA47ACA8A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3717-8DFB-4CF9-A030-B94C7964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91E4E-5A29-48EE-9426-1A37DF578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46EA4-FAF2-44BB-8233-A4D84AB3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6461-FD39-4409-B8DA-B6CB865A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970FD-988F-4405-BE47-A8158BCE4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215F-0E13-442E-BAC3-FDABA2FE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007F-8548-4440-A71F-C065DFA9F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B264-79B1-402C-9E7A-5A1837957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F9FD-7365-4B5E-A1A5-DB1F4741297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640"/>
            <a:ext cx="7772400" cy="39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arming As A System</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put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farm can be viewed as a system, with inputs, throughputs (or processes), outputs and feedback.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puts</a:t>
            </a:r>
            <a:r>
              <a:rPr b="0" lang="en-US" sz="3200" spc="-1" strike="noStrike">
                <a:solidFill>
                  <a:srgbClr val="000000"/>
                </a:solidFill>
                <a:latin typeface="Calibri"/>
              </a:rPr>
              <a:t> can be divided into two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ysical inputs</a:t>
            </a:r>
            <a:r>
              <a:rPr b="0" lang="en-US" sz="3200" spc="-1" strike="noStrike">
                <a:solidFill>
                  <a:srgbClr val="000000"/>
                </a:solidFill>
                <a:latin typeface="Calibri"/>
              </a:rPr>
              <a:t> are naturally occurring things such as water, raw materials and the 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a:t>
            </a:r>
            <a:r>
              <a:rPr b="0" lang="en-US" sz="3200" spc="-1" strike="noStrike">
                <a:solidFill>
                  <a:srgbClr val="000000"/>
                </a:solidFill>
                <a:latin typeface="Calibri"/>
              </a:rPr>
              <a:t> or </a:t>
            </a:r>
            <a:r>
              <a:rPr b="1" lang="en-US" sz="3200" spc="-1" strike="noStrike">
                <a:solidFill>
                  <a:srgbClr val="000000"/>
                </a:solidFill>
                <a:latin typeface="Calibri"/>
              </a:rPr>
              <a:t>Cultural Inputs</a:t>
            </a:r>
            <a:r>
              <a:rPr b="0" lang="en-US" sz="3200" spc="-1" strike="noStrike">
                <a:solidFill>
                  <a:srgbClr val="000000"/>
                </a:solidFill>
                <a:latin typeface="Calibri"/>
              </a:rPr>
              <a:t> are things like money, labour, and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cesses And Output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cesses</a:t>
            </a:r>
            <a:r>
              <a:rPr b="0" lang="en-US" sz="3200" spc="-1" strike="noStrike">
                <a:solidFill>
                  <a:srgbClr val="000000"/>
                </a:solidFill>
                <a:latin typeface="Calibri"/>
              </a:rPr>
              <a:t> or </a:t>
            </a:r>
            <a:r>
              <a:rPr b="1" lang="en-US" sz="3200" spc="-1" strike="noStrike">
                <a:solidFill>
                  <a:srgbClr val="000000"/>
                </a:solidFill>
                <a:latin typeface="Calibri"/>
              </a:rPr>
              <a:t>Throughputs</a:t>
            </a:r>
            <a:r>
              <a:rPr b="0" lang="en-US" sz="3200" spc="-1" strike="noStrike">
                <a:solidFill>
                  <a:srgbClr val="000000"/>
                </a:solidFill>
                <a:latin typeface="Calibri"/>
              </a:rPr>
              <a:t> are the actions within the farm that allow the inputs to turn into outputs. Processes could include things such as milking, harvesting and she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utputs</a:t>
            </a:r>
            <a:r>
              <a:rPr b="0" lang="en-US" sz="3200" spc="-1" strike="noStrike">
                <a:solidFill>
                  <a:srgbClr val="000000"/>
                </a:solidFill>
                <a:latin typeface="Calibri"/>
              </a:rPr>
              <a:t> can be negative or positive, although they are usually the latter. Negative outputs include waste products and soil erosion. The positive outputs are the finished products, such as meat, milk and eggs, and the money gained from the sale of those produ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eedback</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edback</a:t>
            </a:r>
            <a:r>
              <a:rPr b="0" lang="en-US" sz="3200" spc="-1" strike="noStrike">
                <a:solidFill>
                  <a:srgbClr val="000000"/>
                </a:solidFill>
                <a:latin typeface="Calibri"/>
              </a:rPr>
              <a:t> is what is put back into th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two examples of this are money, from the sale of the outputs, and knowledge, gained from the whole manufacturing proc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knowledge could then be used to make the product better or improve the efficiency of the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3.bp.blogspot.com/_qeX7ETnLfiE/SxRE-N5Qp8I/AAAAAAAAADU/E0edSaQtRrc/s1600/Farming+System.png"/>
          <p:cNvPicPr/>
          <p:nvPr/>
        </p:nvPicPr>
        <p:blipFill>
          <a:blip r:embed="rId1"/>
          <a:stretch/>
        </p:blipFill>
        <p:spPr>
          <a:xfrm>
            <a:off x="468360" y="351000"/>
            <a:ext cx="8170920" cy="616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3:59:25Z</dcterms:created>
  <dc:creator>Dell_02</dc:creator>
  <dc:description/>
  <dc:language>en-US</dc:language>
  <cp:lastModifiedBy>Dell_02</cp:lastModifiedBy>
  <dcterms:modified xsi:type="dcterms:W3CDTF">2011-01-27T14:05:06Z</dcterms:modified>
  <cp:revision>1</cp:revision>
  <dc:subject/>
  <dc:title>Farming As A System</dc:title>
</cp:coreProperties>
</file>